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5C44-2A3E-4EF1-A940-7B4D483D6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7B48-F700-40B9-A816-F2AB41641C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2120" y="1447560"/>
            <a:ext cx="7239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752120" y="3875400"/>
            <a:ext cx="7239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52120" y="1447560"/>
            <a:ext cx="3532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61920" y="1447560"/>
            <a:ext cx="3532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52120" y="3875400"/>
            <a:ext cx="3532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461920" y="3875400"/>
            <a:ext cx="3532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120" y="1447560"/>
            <a:ext cx="2330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99760" y="1447560"/>
            <a:ext cx="2330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47400" y="1447560"/>
            <a:ext cx="2330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752120" y="3875400"/>
            <a:ext cx="2330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199760" y="3875400"/>
            <a:ext cx="2330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47400" y="3875400"/>
            <a:ext cx="2330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752120" y="1447560"/>
            <a:ext cx="7239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120" y="1447560"/>
            <a:ext cx="7239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52120" y="1447560"/>
            <a:ext cx="353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461920" y="1447560"/>
            <a:ext cx="353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52120" y="313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52120" y="1447560"/>
            <a:ext cx="3532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61920" y="1447560"/>
            <a:ext cx="353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752120" y="3875400"/>
            <a:ext cx="3532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752120" y="1447560"/>
            <a:ext cx="7239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52120" y="1447560"/>
            <a:ext cx="353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61920" y="1447560"/>
            <a:ext cx="3532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461920" y="3875400"/>
            <a:ext cx="3532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52120" y="1447560"/>
            <a:ext cx="3532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61920" y="1447560"/>
            <a:ext cx="3532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752120" y="3875400"/>
            <a:ext cx="7239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52120" y="1447560"/>
            <a:ext cx="7239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752120" y="3875400"/>
            <a:ext cx="7239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52120" y="1447560"/>
            <a:ext cx="3532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1447560"/>
            <a:ext cx="3532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52120" y="3875400"/>
            <a:ext cx="3532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461920" y="3875400"/>
            <a:ext cx="3532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52120" y="1447560"/>
            <a:ext cx="2330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99760" y="1447560"/>
            <a:ext cx="2330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47400" y="1447560"/>
            <a:ext cx="2330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752120" y="3875400"/>
            <a:ext cx="2330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199760" y="3875400"/>
            <a:ext cx="2330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47400" y="3875400"/>
            <a:ext cx="2330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52120" y="1447560"/>
            <a:ext cx="7239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52120" y="1447560"/>
            <a:ext cx="7239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52120" y="1447560"/>
            <a:ext cx="353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461920" y="1447560"/>
            <a:ext cx="353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752120" y="1447560"/>
            <a:ext cx="7239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752120" y="313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120" y="1447560"/>
            <a:ext cx="3532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461920" y="1447560"/>
            <a:ext cx="353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752120" y="3875400"/>
            <a:ext cx="3532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120" y="1447560"/>
            <a:ext cx="353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1447560"/>
            <a:ext cx="3532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461920" y="3875400"/>
            <a:ext cx="3532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120" y="1447560"/>
            <a:ext cx="3532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461920" y="1447560"/>
            <a:ext cx="3532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752120" y="3875400"/>
            <a:ext cx="7239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120" y="1447560"/>
            <a:ext cx="7239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752120" y="3875400"/>
            <a:ext cx="7239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52120" y="1447560"/>
            <a:ext cx="3532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461920" y="1447560"/>
            <a:ext cx="3532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752120" y="3875400"/>
            <a:ext cx="3532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461920" y="3875400"/>
            <a:ext cx="3532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52120" y="1447560"/>
            <a:ext cx="2330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199760" y="1447560"/>
            <a:ext cx="2330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647400" y="1447560"/>
            <a:ext cx="2330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752120" y="3875400"/>
            <a:ext cx="2330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199760" y="3875400"/>
            <a:ext cx="2330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647400" y="3875400"/>
            <a:ext cx="2330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1447560"/>
            <a:ext cx="353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461920" y="1447560"/>
            <a:ext cx="353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752120" y="313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52120" y="1447560"/>
            <a:ext cx="3532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1447560"/>
            <a:ext cx="353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752120" y="3875400"/>
            <a:ext cx="3532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52120" y="1447560"/>
            <a:ext cx="353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61920" y="1447560"/>
            <a:ext cx="3532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461920" y="3875400"/>
            <a:ext cx="3532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120" y="1447560"/>
            <a:ext cx="3532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61920" y="1447560"/>
            <a:ext cx="35326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52120" y="3875400"/>
            <a:ext cx="72392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1447560"/>
            <a:ext cx="7239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Box 6"/>
          <p:cNvSpPr/>
          <p:nvPr/>
        </p:nvSpPr>
        <p:spPr>
          <a:xfrm>
            <a:off x="8229600" y="6480"/>
            <a:ext cx="990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2.2.2.G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6"/>
          <p:cNvSpPr/>
          <p:nvPr/>
        </p:nvSpPr>
        <p:spPr>
          <a:xfrm>
            <a:off x="8229600" y="6480"/>
            <a:ext cx="990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2.2.2.G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28"/>
          <p:cNvSpPr/>
          <p:nvPr/>
        </p:nvSpPr>
        <p:spPr>
          <a:xfrm>
            <a:off x="1905120" y="624528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  <a:ea typeface="Calibri"/>
              </a:rPr>
              <a:t>© Take Charge Today – August 2013 – The Basics of Taxes – Slide </a:t>
            </a:r>
            <a:fld id="{07DCEA61-4F4E-4F58-8176-25548ADACA70}" type="slidenum">
              <a:rPr b="0" lang="en-US" sz="7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 Take Charge America Institute at the University of Arizon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2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772400" y="6539040"/>
            <a:ext cx="1182600" cy="228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UA-horiz blk"/>
          <p:cNvPicPr/>
          <p:nvPr/>
        </p:nvPicPr>
        <p:blipFill>
          <a:blip r:embed="rId4"/>
          <a:stretch/>
        </p:blipFill>
        <p:spPr>
          <a:xfrm>
            <a:off x="1676520" y="6553080"/>
            <a:ext cx="874440" cy="192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5"/>
          <a:srcRect l="22185" t="1772" r="19331" b="16811"/>
          <a:stretch/>
        </p:blipFill>
        <p:spPr>
          <a:xfrm>
            <a:off x="311040" y="3492360"/>
            <a:ext cx="1079640" cy="15019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44" name="Picture 8" descr=""/>
          <p:cNvPicPr/>
          <p:nvPr/>
        </p:nvPicPr>
        <p:blipFill>
          <a:blip r:embed="rId6"/>
          <a:srcRect l="15591" t="0" r="18465" b="6516"/>
          <a:stretch/>
        </p:blipFill>
        <p:spPr>
          <a:xfrm>
            <a:off x="311040" y="5121360"/>
            <a:ext cx="1079640" cy="15285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752120" y="1447560"/>
            <a:ext cx="7239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8229600" y="6480"/>
            <a:ext cx="990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2.2.2.G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3"/>
          <a:srcRect l="22185" t="1772" r="19331" b="16811"/>
          <a:stretch/>
        </p:blipFill>
        <p:spPr>
          <a:xfrm>
            <a:off x="311040" y="3492360"/>
            <a:ext cx="1079640" cy="15019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85" name="Picture 7" descr=""/>
          <p:cNvPicPr/>
          <p:nvPr/>
        </p:nvPicPr>
        <p:blipFill>
          <a:blip r:embed="rId4"/>
          <a:srcRect l="15591" t="0" r="18465" b="6516"/>
          <a:stretch/>
        </p:blipFill>
        <p:spPr>
          <a:xfrm>
            <a:off x="311040" y="5121360"/>
            <a:ext cx="1079640" cy="15285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86" name="Picture 8" descr=""/>
          <p:cNvPicPr/>
          <p:nvPr/>
        </p:nvPicPr>
        <p:blipFill>
          <a:blip r:embed="rId5"/>
          <a:stretch/>
        </p:blipFill>
        <p:spPr>
          <a:xfrm>
            <a:off x="6934320" y="5979960"/>
            <a:ext cx="2011320" cy="609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6"/>
          <a:stretch/>
        </p:blipFill>
        <p:spPr>
          <a:xfrm>
            <a:off x="1835280" y="6026040"/>
            <a:ext cx="2286000" cy="4971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752120" y="1447560"/>
            <a:ext cx="7239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52120" y="20570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asics of Tax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285640" y="32767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vance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ederal Income Ta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Diagram 3" descr=""/>
          <p:cNvPicPr/>
          <p:nvPr/>
        </p:nvPicPr>
        <p:blipFill>
          <a:blip r:embed="rId1"/>
          <a:stretch/>
        </p:blipFill>
        <p:spPr>
          <a:xfrm>
            <a:off x="1895400" y="1371600"/>
            <a:ext cx="7029360" cy="487692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5"/>
          <p:cNvSpPr/>
          <p:nvPr/>
        </p:nvSpPr>
        <p:spPr>
          <a:xfrm>
            <a:off x="1836720" y="2274840"/>
            <a:ext cx="220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73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rned and unearned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er income = more tax p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4267080" y="226224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73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jority of people living in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6705720" y="2244600"/>
            <a:ext cx="2209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73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rations of feder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vernment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efense of the 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isaster rel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tate Income Tax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Diagram 3" descr=""/>
          <p:cNvPicPr/>
          <p:nvPr/>
        </p:nvPicPr>
        <p:blipFill>
          <a:blip r:embed="rId1"/>
          <a:stretch/>
        </p:blipFill>
        <p:spPr>
          <a:xfrm>
            <a:off x="1895400" y="1298520"/>
            <a:ext cx="7029360" cy="46450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4"/>
          <p:cNvSpPr/>
          <p:nvPr/>
        </p:nvSpPr>
        <p:spPr>
          <a:xfrm>
            <a:off x="3276720" y="4923000"/>
            <a:ext cx="3429000" cy="1265040"/>
          </a:xfrm>
          <a:prstGeom prst="rect">
            <a:avLst/>
          </a:prstGeom>
          <a:solidFill>
            <a:srgbClr val="efefe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4054320" y="5045040"/>
            <a:ext cx="2498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es your state have state income tax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3306600" y="511344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2"/>
          <p:cNvSpPr/>
          <p:nvPr/>
        </p:nvSpPr>
        <p:spPr>
          <a:xfrm>
            <a:off x="1828800" y="2274840"/>
            <a:ext cx="2163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73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rned and unearned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er income = More tax p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4240080" y="2244600"/>
            <a:ext cx="228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73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ose living in states with a state income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all states have a state income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6699240" y="2247840"/>
            <a:ext cx="228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73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ies by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tate hig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Operations of state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52120" y="31680"/>
            <a:ext cx="7239240" cy="9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ayroll Ta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092320" y="9144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yroll tax 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ax on earned income that supports the Social Security and Medicare programs (also known as FIC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Diagram 4" descr=""/>
          <p:cNvPicPr/>
          <p:nvPr/>
        </p:nvPicPr>
        <p:blipFill>
          <a:blip r:embed="rId1"/>
          <a:stretch/>
        </p:blipFill>
        <p:spPr>
          <a:xfrm>
            <a:off x="1908000" y="1908000"/>
            <a:ext cx="7027920" cy="46450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3"/>
          <p:cNvSpPr/>
          <p:nvPr/>
        </p:nvSpPr>
        <p:spPr>
          <a:xfrm>
            <a:off x="1806480" y="2841480"/>
            <a:ext cx="223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73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et percentage of earned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ducted out of paycheck (except for self-employ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4302000" y="2843280"/>
            <a:ext cx="2057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73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s who earn income from working for p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6740640" y="2843280"/>
            <a:ext cx="220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73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 Security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dicar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is Social Securit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214" name="Diagram 5" descr=""/>
          <p:cNvPicPr/>
          <p:nvPr/>
        </p:nvPicPr>
        <p:blipFill>
          <a:blip r:embed="rId2"/>
          <a:stretch/>
        </p:blipFill>
        <p:spPr>
          <a:xfrm>
            <a:off x="1895400" y="1219320"/>
            <a:ext cx="7029360" cy="50292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2"/>
          <p:cNvSpPr/>
          <p:nvPr/>
        </p:nvSpPr>
        <p:spPr>
          <a:xfrm>
            <a:off x="1828800" y="2389320"/>
            <a:ext cx="3352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73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ome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etire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eople with profound di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hildren who have lost a 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 person with children who has experienced the death of a sp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5584680" y="239076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73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.2% of earned income (decreased to 4.2% for 2011-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 to an annual 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is Medicar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219" name="Diagram 5" descr=""/>
          <p:cNvPicPr/>
          <p:nvPr/>
        </p:nvPicPr>
        <p:blipFill>
          <a:blip r:embed="rId2"/>
          <a:stretch/>
        </p:blipFill>
        <p:spPr>
          <a:xfrm>
            <a:off x="1895400" y="1523880"/>
            <a:ext cx="7029360" cy="41148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2"/>
          <p:cNvSpPr/>
          <p:nvPr/>
        </p:nvSpPr>
        <p:spPr>
          <a:xfrm>
            <a:off x="1863720" y="28908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73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lps pay for health care for senior citiz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5638680" y="289548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73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45% of earned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Diagram 3" descr=""/>
          <p:cNvPicPr/>
          <p:nvPr/>
        </p:nvPicPr>
        <p:blipFill>
          <a:blip r:embed="rId1"/>
          <a:stretch/>
        </p:blipFill>
        <p:spPr>
          <a:xfrm>
            <a:off x="1822320" y="1262160"/>
            <a:ext cx="7113600" cy="4059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mployers also pay Social Security and Medic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752120" y="152352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ch their employees tax contrib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2408400" y="464832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f-employed people pay both the employee and employer contribu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1797120" y="262404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ee contrib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4389480" y="264312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er contrib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7155000" y="2124000"/>
            <a:ext cx="1752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er pays $200 in payroll taxes to the feder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is the difference between income tax and payroll tax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05120" y="1447920"/>
          <a:ext cx="6858000" cy="467352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fefef"/>
                          </a:solidFill>
                          <a:latin typeface="Calibri"/>
                        </a:rPr>
                        <a:t>Income T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b9"/>
                      </a:solidFill>
                    </a:lnL>
                    <a:lnR>
                      <a:noFill/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fefef"/>
                          </a:solidFill>
                          <a:latin typeface="Calibri"/>
                        </a:rPr>
                        <a:t>Payroll T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10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175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44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</a:tr>
            </a:tbl>
          </a:graphicData>
        </a:graphic>
      </p:graphicFrame>
      <p:sp>
        <p:nvSpPr>
          <p:cNvPr id="231" name="Rectangle 5"/>
          <p:cNvSpPr/>
          <p:nvPr/>
        </p:nvSpPr>
        <p:spPr>
          <a:xfrm>
            <a:off x="1925640" y="1828800"/>
            <a:ext cx="33051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id on both earned and unearned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5345280" y="1835280"/>
            <a:ext cx="34178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id on only earned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1909800" y="2919240"/>
            <a:ext cx="343548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ount paid depends on many different factors but increases as income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5343480" y="2890800"/>
            <a:ext cx="3419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et percentage of earned income is p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1887480" y="4614840"/>
            <a:ext cx="34578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nds many different operations and programs of the feder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5342040" y="4656240"/>
            <a:ext cx="3421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nds the Social Security and Medicar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perty Ta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752120" y="129528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perty ta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a tax on property, such as land, buildings (including homes), and motor vehi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Diagram 3" descr=""/>
          <p:cNvPicPr/>
          <p:nvPr/>
        </p:nvPicPr>
        <p:blipFill>
          <a:blip r:embed="rId1"/>
          <a:stretch/>
        </p:blipFill>
        <p:spPr>
          <a:xfrm>
            <a:off x="1895400" y="2212920"/>
            <a:ext cx="7029360" cy="41878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4"/>
          <p:cNvSpPr/>
          <p:nvPr/>
        </p:nvSpPr>
        <p:spPr>
          <a:xfrm>
            <a:off x="1828800" y="3124080"/>
            <a:ext cx="220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73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centage of property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ount paid varies depending upon where you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4253040" y="3098880"/>
            <a:ext cx="228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73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perty ow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08120" indent="-343080">
              <a:lnSpc>
                <a:spcPct val="100000"/>
              </a:lnSpc>
              <a:buClr>
                <a:srgbClr val="000000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ee to license car is a property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6735600" y="3125880"/>
            <a:ext cx="228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73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nses of state and local gover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ales Ta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752120" y="1143000"/>
            <a:ext cx="72392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les ta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tax on purchased goods and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Diagram 4" descr=""/>
          <p:cNvPicPr/>
          <p:nvPr/>
        </p:nvPicPr>
        <p:blipFill>
          <a:blip r:embed="rId1"/>
          <a:stretch/>
        </p:blipFill>
        <p:spPr>
          <a:xfrm>
            <a:off x="1895400" y="1994040"/>
            <a:ext cx="7029360" cy="42544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5"/>
          <p:cNvSpPr/>
          <p:nvPr/>
        </p:nvSpPr>
        <p:spPr>
          <a:xfrm>
            <a:off x="5867280" y="5207040"/>
            <a:ext cx="3048120" cy="952560"/>
          </a:xfrm>
          <a:prstGeom prst="rect">
            <a:avLst/>
          </a:prstGeom>
          <a:solidFill>
            <a:srgbClr val="efefe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6645240" y="5181480"/>
            <a:ext cx="2498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es your state have sales tax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>
            <a:off x="5897520" y="52801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3"/>
          <p:cNvSpPr/>
          <p:nvPr/>
        </p:nvSpPr>
        <p:spPr>
          <a:xfrm>
            <a:off x="1828800" y="2819520"/>
            <a:ext cx="228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73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ercentage added to the original price of an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.00 item charged 6% sales tax = $1.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4275000" y="2819520"/>
            <a:ext cx="228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73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one who purchases an item charged with sales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states don’t have sales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6670800" y="2822400"/>
            <a:ext cx="224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73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nses of state and local gover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cise Ta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752120" y="121932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xcise tax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taxes collected from the seller or retailer and as such often remain hidden in the price of a produce or serv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Diagram 4" descr=""/>
          <p:cNvPicPr/>
          <p:nvPr/>
        </p:nvPicPr>
        <p:blipFill>
          <a:blip r:embed="rId1"/>
          <a:stretch/>
        </p:blipFill>
        <p:spPr>
          <a:xfrm>
            <a:off x="1895400" y="2133720"/>
            <a:ext cx="7029360" cy="410184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3"/>
          <p:cNvSpPr/>
          <p:nvPr/>
        </p:nvSpPr>
        <p:spPr>
          <a:xfrm>
            <a:off x="1828800" y="2954160"/>
            <a:ext cx="2286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73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rchase of certain ite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9720" indent="-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9720" indent="-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Hotel ro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9720" indent="-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Airline ti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9720" indent="-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igaret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9720" indent="-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ten included within the price of these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4253040" y="2990880"/>
            <a:ext cx="228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73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one who purchases certain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ies by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6697800" y="3030480"/>
            <a:ext cx="229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73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nses of state and local gover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are taxe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Content Placeholder 4" descr=""/>
          <p:cNvPicPr/>
          <p:nvPr/>
        </p:nvPicPr>
        <p:blipFill>
          <a:blip r:embed="rId1"/>
          <a:stretch/>
        </p:blipFill>
        <p:spPr>
          <a:xfrm>
            <a:off x="1743120" y="1438200"/>
            <a:ext cx="7261200" cy="46706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6492960" y="4495680"/>
            <a:ext cx="2361960" cy="1143000"/>
          </a:xfrm>
          <a:prstGeom prst="rect">
            <a:avLst/>
          </a:prstGeom>
          <a:solidFill>
            <a:srgbClr val="efefe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7269120" y="4648320"/>
            <a:ext cx="1433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you a taxpay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6523200" y="468648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3"/>
          <a:stretch/>
        </p:blipFill>
        <p:spPr>
          <a:xfrm>
            <a:off x="5257800" y="2286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1820880" y="149076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axe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um of money demanded by a government to support the government itself as well as specific facilities 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2933640" y="408456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id by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axpay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erson who pays a tax to national, state, county or municipal (city/town) gover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ow are tax rates determin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Content Placeholder 4" descr=""/>
          <p:cNvPicPr/>
          <p:nvPr/>
        </p:nvPicPr>
        <p:blipFill>
          <a:blip r:embed="rId1"/>
          <a:stretch/>
        </p:blipFill>
        <p:spPr>
          <a:xfrm>
            <a:off x="1755720" y="1359000"/>
            <a:ext cx="7236000" cy="49021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7848720" y="38088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5"/>
          <p:cNvSpPr/>
          <p:nvPr/>
        </p:nvSpPr>
        <p:spPr>
          <a:xfrm>
            <a:off x="1951200" y="1371600"/>
            <a:ext cx="684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ermined by public representatives (city councils, county commissions, state legislatures, Congr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4108320" y="2911320"/>
            <a:ext cx="23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ed by vo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4037760" y="42544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xpayers = vo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2149560" y="536904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as a voting group to elect representatives who will represent the maj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axes and Money Manag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Content Placeholder 6" descr=""/>
          <p:cNvPicPr/>
          <p:nvPr/>
        </p:nvPicPr>
        <p:blipFill>
          <a:blip r:embed="rId1"/>
          <a:stretch/>
        </p:blipFill>
        <p:spPr>
          <a:xfrm>
            <a:off x="1805040" y="689040"/>
            <a:ext cx="7119720" cy="413208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3"/>
          <p:cNvSpPr/>
          <p:nvPr/>
        </p:nvSpPr>
        <p:spPr>
          <a:xfrm>
            <a:off x="2819520" y="4572000"/>
            <a:ext cx="5227560" cy="1295280"/>
          </a:xfrm>
          <a:prstGeom prst="rect">
            <a:avLst/>
          </a:prstGeom>
          <a:solidFill>
            <a:srgbClr val="efefe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3551400" y="4724280"/>
            <a:ext cx="444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y do you think understanding taxes is an important part of money manag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2"/>
          <a:stretch/>
        </p:blipFill>
        <p:spPr>
          <a:xfrm>
            <a:off x="2849400" y="48229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2"/>
          <p:cNvSpPr/>
          <p:nvPr/>
        </p:nvSpPr>
        <p:spPr>
          <a:xfrm>
            <a:off x="1749600" y="1933560"/>
            <a:ext cx="3481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xes play a role in both earning and sp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5562720" y="193356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of the largest expenses for many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Content Placeholder 3" descr=""/>
          <p:cNvPicPr/>
          <p:nvPr/>
        </p:nvPicPr>
        <p:blipFill>
          <a:blip r:embed="rId1"/>
          <a:stretch/>
        </p:blipFill>
        <p:spPr>
          <a:xfrm>
            <a:off x="1755720" y="1438200"/>
            <a:ext cx="7236000" cy="46576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2"/>
          <p:cNvSpPr/>
          <p:nvPr/>
        </p:nvSpPr>
        <p:spPr>
          <a:xfrm>
            <a:off x="2119320" y="1573200"/>
            <a:ext cx="3124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out taxes it would be hard to pay for many of the benefits of being a member of a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5597640" y="206856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xes are charged in many different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2133720" y="3811680"/>
            <a:ext cx="31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mount of taxes you pay and what you pay those taxes on will vary depending upon where you live and your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5584680" y="432756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derstanding taxes is an important part of mone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Diagram 4" descr=""/>
          <p:cNvPicPr/>
          <p:nvPr/>
        </p:nvPicPr>
        <p:blipFill>
          <a:blip r:embed="rId1"/>
          <a:stretch/>
        </p:blipFill>
        <p:spPr>
          <a:xfrm>
            <a:off x="1822320" y="1298520"/>
            <a:ext cx="7023240" cy="48769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2"/>
          <p:cNvSpPr/>
          <p:nvPr/>
        </p:nvSpPr>
        <p:spPr>
          <a:xfrm>
            <a:off x="1881360" y="4287960"/>
            <a:ext cx="137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967920" y="448956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5636520" y="447660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7529400" y="4287960"/>
            <a:ext cx="114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ty/ t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are benefits of being a part of these communitie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Content Placeholder 6" descr=""/>
          <p:cNvPicPr/>
          <p:nvPr/>
        </p:nvPicPr>
        <p:blipFill>
          <a:blip r:embed="rId1"/>
          <a:stretch/>
        </p:blipFill>
        <p:spPr>
          <a:xfrm>
            <a:off x="1596960" y="1219320"/>
            <a:ext cx="7553520" cy="4651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8229600" y="3808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2"/>
          <p:cNvSpPr/>
          <p:nvPr/>
        </p:nvSpPr>
        <p:spPr>
          <a:xfrm>
            <a:off x="2129400" y="2590920"/>
            <a:ext cx="9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834720" y="26035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5600880" y="1995480"/>
            <a:ext cx="142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litary for national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666880" y="4098960"/>
            <a:ext cx="171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blic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4425840" y="3887640"/>
            <a:ext cx="18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ce and fire depar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6310440" y="4071960"/>
            <a:ext cx="19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reation (parks, trai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7935480" y="252576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You are better off being in a community than by yourself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Diagram 4" descr=""/>
          <p:cNvPicPr/>
          <p:nvPr/>
        </p:nvPicPr>
        <p:blipFill>
          <a:blip r:embed="rId1"/>
          <a:stretch/>
        </p:blipFill>
        <p:spPr>
          <a:xfrm>
            <a:off x="1920960" y="2090880"/>
            <a:ext cx="6851520" cy="37065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2"/>
          <p:cNvSpPr/>
          <p:nvPr/>
        </p:nvSpPr>
        <p:spPr>
          <a:xfrm>
            <a:off x="3984480" y="22939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a community member you receive many benefits you could not pay for individ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4008600" y="397836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xes are a way members of a community provide for one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ow do you benefit from taxe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752120" y="1447560"/>
            <a:ext cx="7239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a list of things you use or benefit from that were funded, at least in part, by ta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these items contribute to your well-be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ould you do                                  if you didn’t have                               these ite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66" name="Content Placeholder 3" descr=""/>
          <p:cNvPicPr/>
          <p:nvPr/>
        </p:nvPicPr>
        <p:blipFill>
          <a:blip r:embed="rId2"/>
          <a:stretch/>
        </p:blipFill>
        <p:spPr>
          <a:xfrm>
            <a:off x="4932360" y="2895480"/>
            <a:ext cx="5357880" cy="3767400"/>
          </a:xfrm>
          <a:prstGeom prst="rect">
            <a:avLst/>
          </a:prstGeom>
          <a:ln w="0">
            <a:noFill/>
          </a:ln>
        </p:spPr>
      </p:pic>
      <p:grpSp>
        <p:nvGrpSpPr>
          <p:cNvPr id="167" name="Group 12"/>
          <p:cNvGrpSpPr/>
          <p:nvPr/>
        </p:nvGrpSpPr>
        <p:grpSpPr>
          <a:xfrm>
            <a:off x="6524640" y="4043520"/>
            <a:ext cx="2362320" cy="1934280"/>
            <a:chOff x="6524640" y="4043520"/>
            <a:chExt cx="2362320" cy="1934280"/>
          </a:xfrm>
        </p:grpSpPr>
        <p:sp>
          <p:nvSpPr>
            <p:cNvPr id="168" name="TextBox 13"/>
            <p:cNvSpPr/>
            <p:nvPr/>
          </p:nvSpPr>
          <p:spPr>
            <a:xfrm>
              <a:off x="7245360" y="4043520"/>
              <a:ext cx="81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hys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Box 14"/>
            <p:cNvSpPr/>
            <p:nvPr/>
          </p:nvSpPr>
          <p:spPr>
            <a:xfrm>
              <a:off x="7721640" y="4629240"/>
              <a:ext cx="116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ntellectu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15"/>
            <p:cNvSpPr/>
            <p:nvPr/>
          </p:nvSpPr>
          <p:spPr>
            <a:xfrm>
              <a:off x="6829200" y="5670720"/>
              <a:ext cx="102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Emot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16"/>
            <p:cNvSpPr/>
            <p:nvPr/>
          </p:nvSpPr>
          <p:spPr>
            <a:xfrm>
              <a:off x="7975800" y="5548320"/>
              <a:ext cx="68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oc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17"/>
            <p:cNvSpPr/>
            <p:nvPr/>
          </p:nvSpPr>
          <p:spPr>
            <a:xfrm>
              <a:off x="6524640" y="4602240"/>
              <a:ext cx="95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Financ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ow do taxpayers pay taxe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7527960" y="3049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75" name="Diagram 6" descr=""/>
          <p:cNvPicPr/>
          <p:nvPr/>
        </p:nvPicPr>
        <p:blipFill>
          <a:blip r:embed="rId2"/>
          <a:stretch/>
        </p:blipFill>
        <p:spPr>
          <a:xfrm>
            <a:off x="609480" y="231840"/>
            <a:ext cx="9375840" cy="59436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7"/>
          <p:cNvSpPr/>
          <p:nvPr/>
        </p:nvSpPr>
        <p:spPr>
          <a:xfrm>
            <a:off x="4572000" y="18288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ome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6019920" y="29034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yro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9"/>
          <p:cNvSpPr/>
          <p:nvPr/>
        </p:nvSpPr>
        <p:spPr>
          <a:xfrm>
            <a:off x="5562720" y="4672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perty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0"/>
          <p:cNvSpPr/>
          <p:nvPr/>
        </p:nvSpPr>
        <p:spPr>
          <a:xfrm>
            <a:off x="3657600" y="4672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1"/>
          <p:cNvSpPr/>
          <p:nvPr/>
        </p:nvSpPr>
        <p:spPr>
          <a:xfrm>
            <a:off x="3102120" y="29098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ci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come ta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Content Placeholder 3" descr=""/>
          <p:cNvPicPr/>
          <p:nvPr/>
        </p:nvPicPr>
        <p:blipFill>
          <a:blip r:embed="rId1"/>
          <a:stretch/>
        </p:blipFill>
        <p:spPr>
          <a:xfrm>
            <a:off x="1755720" y="1133640"/>
            <a:ext cx="7236000" cy="4975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"/>
          <p:cNvSpPr/>
          <p:nvPr/>
        </p:nvSpPr>
        <p:spPr>
          <a:xfrm>
            <a:off x="3768840" y="121932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come tax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x on earned and unearned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2133720" y="2998800"/>
            <a:ext cx="265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arned inco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money earned from working for p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5135400" y="2813040"/>
            <a:ext cx="295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earned incom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income received from sources other than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2790720" y="4792680"/>
            <a:ext cx="27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: Wages and salaries earned from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5916600" y="480384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: Interest earned from a savings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52120" y="313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ponents of income ta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Content Placeholder 3" descr=""/>
          <p:cNvPicPr/>
          <p:nvPr/>
        </p:nvPicPr>
        <p:blipFill>
          <a:blip r:embed="rId1"/>
          <a:stretch/>
        </p:blipFill>
        <p:spPr>
          <a:xfrm>
            <a:off x="1755720" y="1438200"/>
            <a:ext cx="7236000" cy="46706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2"/>
          <p:cNvSpPr/>
          <p:nvPr/>
        </p:nvSpPr>
        <p:spPr>
          <a:xfrm>
            <a:off x="2576520" y="1600200"/>
            <a:ext cx="1600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deral income 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2670120" y="4564080"/>
            <a:ext cx="1467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e income 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871240" y="346068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ome 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15:13:27Z</dcterms:created>
  <dc:creator>Lindy</dc:creator>
  <dc:description/>
  <dc:language>en-US</dc:language>
  <cp:lastModifiedBy>Amanda Mason</cp:lastModifiedBy>
  <cp:lastPrinted>2012-03-30T16:59:28Z</cp:lastPrinted>
  <dcterms:modified xsi:type="dcterms:W3CDTF">2014-02-28T15:22:36Z</dcterms:modified>
  <cp:revision>7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62071033</vt:lpwstr>
  </property>
</Properties>
</file>